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4DB-EBFF-4DF3-81EF-60E50562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CA6-2D2F-4354-90A2-040F5F75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014-F049-49B2-81E1-C6F22358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819-E68C-43EF-ABA9-B32DC76E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BC8-278E-4C3F-9AC8-914C71F5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5C9-0509-48B7-8F15-8AE179BA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B3A-FCAD-46EC-83C5-8A66B444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024-58A4-48FB-B8F5-88E8BFED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636-30A3-471C-ABC2-940BB1DB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56B-1448-40EB-BFAE-405E3707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23DA-5529-4B00-BF70-0FC6C128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6F3-7C6F-4F28-9DA1-9EF7E8A4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65FF-FB16-4B20-B32A-14697A04F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Expected Valu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 a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inear Mod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05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1219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08660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7086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16292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162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2133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716256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52480" y="4038480"/>
            <a:ext cx="5029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46784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46784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467840" cy="939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4400" y="40384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572000"/>
            <a:ext cx="9907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46784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7467840" cy="939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350532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4038480"/>
            <a:ext cx="9907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286000" y="4648320"/>
            <a:ext cx="4419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96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3924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2392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23888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238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0:26:21Z</dcterms:modified>
  <cp:revision>43</cp:revision>
  <dc:subject/>
  <dc:title>PowerPoint Presentation</dc:title>
</cp:coreProperties>
</file>